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21B-2C04-4088-B3A2-8F9EE039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7A4-47D4-4760-AB89-811EC5D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DDC1D7-6130-4F36-8F71-B8CAEAFD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24722A-0B80-449D-B761-2961A647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D80C9A-3353-48E6-AEE6-D752312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A1257-5728-4680-871E-72C7E5A9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E40B3-9588-4862-BE56-3F514515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1C220-674C-4A2D-924D-BB0CA53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321EAD-FAD8-4540-A716-E742EA60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3D9A4-858B-43ED-BF51-8A236857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EC61CA-5089-4928-A920-89BD47C2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3AE-8AE4-4F6F-B162-215FA2BE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48E-076B-416E-BB0C-BFE76C60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4201F-4E2F-46DE-AA66-34454E60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5D3BE-9E2D-46E1-A9C4-056136FB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131AE-CC70-461D-A39C-4546C444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BE056-8F20-47E1-BA25-A2B375D3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A1E3B-EF72-47FA-97C5-9087483B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B3DEB-0831-408E-8691-9C3983C7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207D6-A2D8-4A12-BC91-F9009E52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BE5-8581-4F28-A955-F8DA3061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AA3F1-1214-44A7-B6B2-63AFC0A8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828F9-1A4D-40A9-BCB1-FE3F2B5F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4A42E-9737-494A-ABA3-23C2FBD0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8A35D-CC3A-499C-9D91-CEF95D7D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B2D21-4F19-45BF-9627-2B5FD78B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1E41-B04F-474D-AA1D-56AE9092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CAD2-E3AD-4FAE-8799-54B51516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315B-960D-4C74-A69A-301EE679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490D-4858-4197-A2F9-31B4673A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E0FA-0A19-4AC6-8C13-ECCEF52D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B2B-B8F5-44C5-9156-C5E139E4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6EEF2-7DBA-495A-93E2-D33F37E6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A11D-7AA8-480E-B3CF-B8FC5BE7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BBF9A-83F2-4D4C-87C7-55F3167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60A5-A555-4CDB-9E26-B5A988C6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6953-E01A-41FE-A647-9EDD2577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0A0F-6260-48EC-9E59-93898425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80D7C-9D3B-47D5-BF9E-55EE9F07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553184-E445-4AF7-A589-AC409406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1AEFB-2D17-46FE-8D1C-9DBE7573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61EFB-0EC8-48AC-A40B-E33A54FA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963-3348-4B80-B702-E1BC192A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56D87-4DB4-4044-BBF3-D4E57ED9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D3694-FE75-4DDD-ADA1-4984C653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2E0F6-1F41-4BD1-9A7F-20907DED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087C8-8468-4B56-90E2-FB8137E2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F2938-E792-429E-BC1F-D020158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927D2-575F-4FC2-B6BE-8D2F2FA7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AB4D8-1764-4D4C-9505-705C8419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9B9A0-7EFE-4D58-8A26-5A425EDD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D951D-A9DF-4F64-BBF8-F102247A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623C6-8086-4B6B-AD36-5A4A9D80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DD3-3EDD-4F61-8449-C6B5D465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7BF03-F343-45A2-8184-A6854839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5270A-157B-4AF4-97F2-9C89ED95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9FF9-11C0-4E9A-8BD3-DD9A22D9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B44BC-1C7D-4AB3-BC9B-267A3042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A790A-0790-4F93-8342-3A7AA058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3AC6-F192-4000-9B2D-06D8E3E3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D46DD-9931-4390-B9D7-6F3A5CA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6F72F-4C62-4F87-82CC-F7C587A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98471-673E-4A28-A64F-5158F5E5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6BF1F-5E36-4017-BAD6-63C8B462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ADC-521A-44FD-8A86-B3948B78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2FE22-03AC-424D-8160-EB619942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4961D-C58D-4EB8-90B3-4592CF07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64457-612C-4DE4-A082-6D46D125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11D2-C9A2-40FC-A20F-C56CE29A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22AA7-1308-4FAE-8B11-0452CF57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021F9-D053-496F-B620-4A1A52F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B99CE-EE83-41DE-9631-224719C5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E06B9-2A60-45AD-9F08-7BA0A858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F4846-332D-4CC5-B64C-82CD52EF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DC530-7DCA-41E3-B01B-E4C3991B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3A4-33F5-4649-86D3-F5E98E9A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29F46-05E9-4591-808A-8E5D1043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510FC-4986-4271-844F-9FCA7D35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E12A-5AF2-484F-8E88-B7E52FF4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52EE1-16B0-4F25-BBB4-7D2CE174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CF89-9C31-464E-919A-D65ADB22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9F260-D49B-417C-AC0D-FB71490E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927C1-24D6-457F-8834-705AA444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BBB9D-676E-4EDB-91F2-B1E1792D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4FE8A-63D1-4F7C-B2BB-2128A075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52DE2-F679-4490-88EE-DF5A369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D4A-2FDB-4572-9665-AF0C771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8F354-01F0-4066-889B-7575D648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5796-14AA-4C50-8100-30CDC424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2E1D0-C633-422C-B2F7-20354F4F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F8848-EB79-4B65-943D-9DA2D785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18795-7914-448D-91BA-856E5F0C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86933B-6856-4B77-9146-E4C0469C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52984-F575-4FBE-AECA-E5D4897D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BF73E7-C91D-4838-A086-E13E054F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E3E6A1-E1FA-4402-A8E0-75F28810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36E23B-4D22-46E3-A8EB-262F109C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340-CBAC-493A-94A8-A6871F89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55F223-7121-49C2-8D9D-C0956C03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E45BF5-79ED-432D-AEA3-DFEC1DC5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6610FD-7AEA-4D6C-B8F1-8435CDF4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AABE21-2E3C-4ACC-A15E-C82C48C6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8D16F-910D-4215-BD06-61EB693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ACEDF9-1DBD-4EB9-AA69-8755C597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F320B1-65E9-4DD2-BCFA-2382C6DC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6315D7-826B-4486-BE99-08D8B6C0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E51CF4-CEF7-489E-9A89-7C862542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104916-14E2-443A-888E-FBB658F8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0221-872A-43CD-B23E-E76A6C1F43F7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C705-817F-4591-9C42-8EABEFFD722B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81F7-7E9E-4D99-965A-388021EE7B27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0553-ED5A-4C4D-9B53-89D48AA07192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16DD-715E-4274-A7B1-9A42B9D5D879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62D5-BBDD-4AB9-9FAA-480C3FE66DB5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5F7A-A6F6-4D55-BA56-930F136A170A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3B85-7924-4C8C-B689-22FE01D92C42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C40B-2AC7-4C97-83DD-D3E24969C500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143680" y="2571840"/>
            <a:ext cx="4192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Sophie Bowde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4" descr="http://shop.discoveringegypt.com/images/LuxorTemple2.jpg"/>
          <p:cNvPicPr/>
          <p:nvPr/>
        </p:nvPicPr>
        <p:blipFill>
          <a:blip r:embed="rId2"/>
          <a:srcRect l="0" t="0" r="12687" b="0"/>
          <a:stretch/>
        </p:blipFill>
        <p:spPr>
          <a:xfrm>
            <a:off x="0" y="3143160"/>
            <a:ext cx="5403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1920960" y="-6480"/>
            <a:ext cx="5533920" cy="10861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rcRect l="0" t="0" r="11524" b="10001"/>
          <a:stretch/>
        </p:blipFill>
        <p:spPr>
          <a:xfrm>
            <a:off x="357120" y="1285920"/>
            <a:ext cx="82155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64600" cy="1152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rcRect l="0" t="0" r="11527" b="6945"/>
          <a:stretch/>
        </p:blipFill>
        <p:spPr>
          <a:xfrm>
            <a:off x="1000080" y="1571760"/>
            <a:ext cx="72867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206360" y="152280"/>
            <a:ext cx="7377120" cy="8654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rcRect l="0" t="0" r="11524" b="8126"/>
          <a:stretch/>
        </p:blipFill>
        <p:spPr>
          <a:xfrm>
            <a:off x="547560" y="1285920"/>
            <a:ext cx="7926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352520" y="-6480"/>
            <a:ext cx="7035840" cy="10861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rcRect l="0" t="0" r="11524" b="7186"/>
          <a:stretch/>
        </p:blipFill>
        <p:spPr>
          <a:xfrm>
            <a:off x="571680" y="1285920"/>
            <a:ext cx="7953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48840" cy="1311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rcRect l="0" t="0" r="12514" b="9085"/>
          <a:stretch/>
        </p:blipFill>
        <p:spPr>
          <a:xfrm>
            <a:off x="642960" y="1714680"/>
            <a:ext cx="74073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37680" cy="1384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rcRect l="0" t="0" r="11527" b="7507"/>
          <a:stretch/>
        </p:blipFill>
        <p:spPr>
          <a:xfrm>
            <a:off x="714240" y="1714680"/>
            <a:ext cx="7336080" cy="47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353880" y="212760"/>
            <a:ext cx="8425080" cy="1219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rcRect l="0" t="0" r="11527" b="7507"/>
          <a:stretch/>
        </p:blipFill>
        <p:spPr>
          <a:xfrm>
            <a:off x="950760" y="1600200"/>
            <a:ext cx="71931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07880" y="182520"/>
            <a:ext cx="8467920" cy="1219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rcRect l="0" t="0" r="11527" b="7507"/>
          <a:stretch/>
        </p:blipFill>
        <p:spPr>
          <a:xfrm>
            <a:off x="857160" y="1571760"/>
            <a:ext cx="72820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3:08:45Z</dcterms:created>
  <dc:creator>Diocesan School for Girls</dc:creator>
  <dc:description/>
  <dc:language>en-US</dc:language>
  <cp:lastModifiedBy>Diocesan School for Girls</cp:lastModifiedBy>
  <dcterms:modified xsi:type="dcterms:W3CDTF">2009-09-01T22:20:44Z</dcterms:modified>
  <cp:revision>14</cp:revision>
  <dc:subject/>
  <dc:title>Slide 1</dc:title>
</cp:coreProperties>
</file>